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B0E-9873-4BCC-B87A-3F1BBBA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9C5-24ED-4E53-BCD0-AF76A0F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D95-2D79-4714-8B3D-AEA419F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A5A-6100-4231-8637-E114E109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13E-1C07-4065-B2BE-F304EE0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DC8-56BC-4C27-BAFF-3C026BF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DF2-93BE-4F12-8056-63E0741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40E-A81C-4184-B281-C382B1E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6BA-1CD0-4318-A833-473647F3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0D8-3001-456C-9113-27A446C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5A2-C224-4B2A-9E28-2B5CA71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A23-17D8-4CB0-B9D1-730C71E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0BB-98E3-4120-8960-393B7972F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3" descr="G:\ВОО 17\с шойгу.jpg"/>
          <p:cNvPicPr/>
          <p:nvPr/>
        </p:nvPicPr>
        <p:blipFill>
          <a:blip r:embed="rId1"/>
          <a:stretch/>
        </p:blipFill>
        <p:spPr>
          <a:xfrm>
            <a:off x="189000" y="155520"/>
            <a:ext cx="8928000" cy="640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615520" y="185760"/>
            <a:ext cx="52848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341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ирая вуз Министерства обороны Российской Федерац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получения высшего образования, гражданин РФ  имеет широкие возможности для самореализации, достойный уровень жизни, высокий социальный стату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9036000" cy="5473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чив  военную образовательную орган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 име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ое вещевое обеспечение, изготовленное  из    качественных   высокотехнолог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приобрести бесплатное жилье в собственность благодаря  военной ипоте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весь период военной службы  служебную квартиру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ую медицинскую помощь в специализирован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жегодный основной отпуск от 30 до 60 суто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на пенсию при достижении общей продолжительности   военной службы в льготном исчислении– 20 ле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обучения зачисляется в общий стаж военной службы офиц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8594640" y="74520"/>
            <a:ext cx="549360" cy="338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8960"/>
            <a:ext cx="9036000" cy="10760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23 году абитуриентов будут принимать 42  военных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х организаций,  которые  готовят военных специалистов  для  всех родов и видов Вооруженных сил РФ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енных образовательных организациях высшего образования, специалистов готовят по программе высшего профессионального образования (далее ВПО) и по программе среднего профессионального образования  (далее СП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ВПО - 5 лет. Выпускники получают диплом специалиста, им присваивается первое воинское звание «лейтенан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СПО - 2 года 10 месяцев. Выпускники получают диплом о среднем профессиональном образовании, им присваивается воинское звание, «прапорщик», «мичма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Министерства обороны 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4920" y="811080"/>
          <a:ext cx="8894880" cy="5967720"/>
        </p:xfrm>
        <a:graphic>
          <a:graphicData uri="http://schemas.openxmlformats.org/drawingml/2006/table">
            <a:tbl>
              <a:tblPr/>
              <a:tblGrid>
                <a:gridCol w="8894880"/>
              </a:tblGrid>
              <a:tr h="5097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осковское высшее военное командное училище (военный институт) общевойсков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мотострелкового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14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занское высшее военное танковое училищ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танкового 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81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Новосибирское высшее воен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вед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5462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Дальневосточное высшее общевойсковое командное училище (г. Благовещ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морской пехо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занское  гвардейское  высшее воздушно-десант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воздушно-десантных во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разведк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19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Тюменское высшее военно-инженерное командное училище (военный институт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инженерных электротехническ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 инженерно-позиционных подразделе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хайловская военная артиллерийская  академия (г. Санкт-Петербург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артилл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йской разведки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970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-104760"/>
          <a:ext cx="9074160" cy="7012080"/>
        </p:xfrm>
        <a:graphic>
          <a:graphicData uri="http://schemas.openxmlformats.org/drawingml/2006/table">
            <a:tbl>
              <a:tblPr/>
              <a:tblGrid>
                <a:gridCol w="907416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5404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ая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овой противовоздушной обороны ВС РФ (г. Смол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специальных радиотехнических систем (ПВО) воздушного простран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ая Академия войск радиационной, химической и биологической, защиты и инженерных войск  ( г. Кострома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радиационной, химической и биологической защи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г. Воронеж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летательных аппаратов и двига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радиотехнических систем и средств обеспечения поле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филиал г . Сызран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летной эксплуатации авиационных комплексов (вертолетов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ВС "Военно-Воздушная академия" ВС РФ (филиал г . Челяби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воздушных судов и организации воздушного движ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лётчи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летчик различных видов военной  авиации (истребительной, фронт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мбардировочной, штурмовой и т.д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Военно-космическая академия имени А.Ф.Можайского (г. Санкт-Петербург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оектированию,  производству  и  эксплуатации  ракет  и  ракетно космических комплекс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Ярославское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военное училище противовоздушной оборо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автоматизированных сист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ьного  назначения (радиоэлектронной борьбы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Военная Академия воздушно-космической обороны   имени Г.К. Жукова( г. Твер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комплексов контроля ис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6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2" name="Прямоугольник 5"/>
          <p:cNvSpPr/>
          <p:nvPr/>
        </p:nvSpPr>
        <p:spPr>
          <a:xfrm>
            <a:off x="8459640" y="166680"/>
            <a:ext cx="505080" cy="4334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101520" y="-96840"/>
          <a:ext cx="9245520" cy="7101000"/>
        </p:xfrm>
        <a:graphic>
          <a:graphicData uri="http://schemas.openxmlformats.org/drawingml/2006/table">
            <a:tbl>
              <a:tblPr/>
              <a:tblGrid>
                <a:gridCol w="9245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6400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УНЦ ВМФ " ВМА», филиал: Военный Институт Военно-морской институт-морской корпус Петра Великого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, «ВМА», филиал: Военно-морской политехнический институт-высшее военное морское инженерное училище (г. Санкт-Петербург,  г. Пушкин)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строительству, ремонту и поисково-спасательному обеспечению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 «ВМА» , филиал: Балтийский Военно-морской институт им. адмирала Ф.Ф. Ушакова)  ( г. Калининград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 по применению и эксплуатации артиллерийского и зенитно-ракетного вооружения надводных корабл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океанское высшее военно-морское училище (г. Владивосто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раблей и подводных лодок, инженер по радиоэлектронным системам и комплекс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Черноморское высшее военно-морское училище  ( г. Севастопол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береговых ракетных комплексов и                           артиллерии        инженер по технике и технологии кораблестроения и водного транспор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Военная академия Ракетных войск стратегического назначения (г. Балаших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 Филиал Военной академии  Ракетных войск стратегического назначения  (г. Серпух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: специалисты по стартовым и техническим комплексам рак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27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Военная Академия связи (г. Санкт-Петербург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 специалист радиосвязи специального назначения  специалист специальной спутниковой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автоматизированных систем обработки информации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 управл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информационной безопасности автоматизированных систем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82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университет радиоэлектроники  (г. Череповец Вологодская обл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 по автоматизированным системам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специальным радиотехническим систем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8575560" y="63360"/>
            <a:ext cx="466920" cy="4082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-17640"/>
          <a:ext cx="9083520" cy="6978960"/>
        </p:xfrm>
        <a:graphic>
          <a:graphicData uri="http://schemas.openxmlformats.org/drawingml/2006/table">
            <a:tbl>
              <a:tblPr/>
              <a:tblGrid>
                <a:gridCol w="9083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21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Военный Университет МО РФ  г. Москва,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по окончании: военные журналисты,  психологи,  дирижеры, юристы, финансисты, переводчики, лингвис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УЗы военной академии материально –технического обеспе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Военная Академия материально-технического обеспечения (г. Санкт-Петербур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Военная академия материально технического обеспечения ( филиал г. Санкт-Петербург) Военный институт  (ЖДВ и ВОС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Военная академии материально технического обеспечения (филиал г. Санкт-Петербург) ВИ (инженерно-техн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27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Военная академия материально технического обеспечения (филиал г. Вольск, Саратовская об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Военная Академия материально технического обеспечения(филиал г. Пен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Военная Академия материально технического обеспечения (филиал г. Омс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тыловому обеспечению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втотехническому обеспечению войск, применению автомобильных подразделений и частей, ремонту и хранению радиолокационных станций и радиотехнических средств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оительству и эксплуатации фортификационных сооружений и маскировки, строительству железных дорог, путей и путев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медицинская академия  имени С.М.Кирова  (г. Санкт-Петербург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врачи, провизо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ский  военный институт физической культу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физической культуре и спор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83 Учебный центр (г. Ростов-на Дону» (по программе  среднего профессионального образования)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школа техников РВСН (г. Знаменск Астраханской обл.)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грамме  среднего профессионального образован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;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8615520" y="81000"/>
            <a:ext cx="468000" cy="3236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1052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федеральных органов исполнительной власти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1092240"/>
          <a:ext cx="8953560" cy="5505480"/>
        </p:xfrm>
        <a:graphic>
          <a:graphicData uri="http://schemas.openxmlformats.org/drawingml/2006/table">
            <a:tbl>
              <a:tblPr/>
              <a:tblGrid>
                <a:gridCol w="8953560"/>
              </a:tblGrid>
              <a:tr h="393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ые институты  Федеральной службы войск национальной гвардии РФ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Санкт-Петербург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сихологии служ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 Саратовский военный институ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СВНГ  РФ   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77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 Пермский военный институт ФСВНГ  РФ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радиотехническим системам и комплексам охранного мониторинга;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057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 Новосибир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ереводам и переводовед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66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РФ  по делам гражданской обороны, чрезвычайным ситуациям и ликвидации последствий стихийных бед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Академия гражданской защиты МЧС по оконча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рименению подразделений воинских спасательных формиров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техносферной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ют прием граждан женского по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Министерства Обороны  РФ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оенна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 радиационной, химической и биологической защит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женерных войск (г. Кострома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Технологии веществ и материалов в вооружении и военной технике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Филиал ВУНЦ ВМФ « Военно-морская академия»(военно-морской политехнически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. Санкт –Петербург. г. Пушкин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илиал ВУНЦ ВМФ « Военно-морская академия» филиал  (г. Калининград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Инфокоммуникационные  технологии и системы специальной связ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раснодарское высшее военное авиационное училище лётчиков (г. Краснодар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тная эксплуатация и применение авиационных комплексов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Военная академия воздушно-космической обороны  (г. Тв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ь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Применение и эксплуатация вычислительных средств АСУ ПВО;  Математическое, программное и информационное обеспечение функционирования комплексов АСУ ПВО; Применение и эксплуатация комплексов средств автоматизации контроля использования воздушного пространства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оенная академия ракетных войск стратегического назначения (г. Балаших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систем специальн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Военная академия связи (г. Санкт-Петербург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атизированных 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ый Университет МО РФ  (г. Москва)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еревод и переводоведение»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Психология служебной деятельност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о-медицинская академия (г. Санкт-Петер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),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чебное дело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личие статуса чемпиона и призера Олимпийских игр, чемпиона мира, чемпиона Европы по видам спорта, включенным в программы Олимпийских игр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личие аттестата о среднем общем образовании с отличием, для награжденных золотой  и серебряной медаль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личие диплома о среднем профессиональном образовании с отличием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10 баллов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аличие аттестата о среднем общем образовании (диплома о среднем профессиональном образовании) с не менее 50% итоговыми отметками «отлично» (остальные - «хорошо»)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зультаты участия кандидатов на обучение в олимпиадах , в творческих конкурсах и спортивных мероприятиях, проводимых образовательными организациями Министерства образования и науки,   победител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езультаты участия кандидатов в олимпиадах школьников по профильной дисциплине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и четырех лет  при наличии у них результатов ЕГЭ не ниже 60 баллов по профильной дисциплине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победитель – 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Наличие аттестата выпускника довузовской образовательной организации со специальными наименованиями, перечисленными в статье 86 Федерального закона от 29 декабря 2012 г. № 273-ФЗ «Об образовании в Российской Федерации» (диплома выпускника профессиональных образовательных организаций), находящихся в введении  Министерства обороны Российской Федераци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920" y="676440"/>
          <a:ext cx="9109080" cy="759924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7630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6 баллов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стальным видам спорта: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С, КМС 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является  участником движения не менее  1 года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аличие документа участника сообщества «Братство Авангард», при условии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волонтерской деятельност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ероическа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нравственная   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расивая професс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красят   военная  форма и боевые наград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боевая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ы-бойцы первой лини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ими страна, в случае необходимости им приним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 первый удар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8000" y="676440"/>
          <a:ext cx="9036000" cy="7873920"/>
        </p:xfrm>
        <a:graphic>
          <a:graphicData uri="http://schemas.openxmlformats.org/drawingml/2006/table">
            <a:tbl>
              <a:tblPr/>
              <a:tblGrid>
                <a:gridCol w="9036000"/>
              </a:tblGrid>
              <a:tr h="7904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 6 баллов, по остальным видам спорта МС, КМС – 5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имеет стаж 1 год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юля года поступл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аличие документа участника сообщества «Братство Авангарда», при условии,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добровольческой (волонтерской деятельности) продолжительностью не менне 100 часов в год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9109080" cy="702468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5518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4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14" descr="C:\Users\User\Desktop\ВОО 17\вольск.jpg"/>
          <p:cNvPicPr/>
          <p:nvPr/>
        </p:nvPicPr>
        <p:blipFill>
          <a:blip r:embed="rId1"/>
          <a:stretch/>
        </p:blipFill>
        <p:spPr>
          <a:xfrm>
            <a:off x="0" y="3822840"/>
            <a:ext cx="4691160" cy="3135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480" y="157320"/>
            <a:ext cx="4527360" cy="368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C:\Users\User\Desktop\фото с парада\parad68-086.jpg"/>
          <p:cNvPicPr/>
          <p:nvPr/>
        </p:nvPicPr>
        <p:blipFill>
          <a:blip r:embed="rId3"/>
          <a:stretch/>
        </p:blipFill>
        <p:spPr>
          <a:xfrm>
            <a:off x="4495680" y="157320"/>
            <a:ext cx="46101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C:\Users\User\Desktop\фото с парада\b032819e4946e693240ec062328013e8.jpeg"/>
          <p:cNvPicPr/>
          <p:nvPr/>
        </p:nvPicPr>
        <p:blipFill>
          <a:blip r:embed="rId4"/>
          <a:stretch/>
        </p:blipFill>
        <p:spPr>
          <a:xfrm>
            <a:off x="4495680" y="3822840"/>
            <a:ext cx="4610160" cy="3206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На печать методичка\Вертолет.jpeg"/>
          <p:cNvPicPr/>
          <p:nvPr/>
        </p:nvPicPr>
        <p:blipFill>
          <a:blip r:embed="rId1"/>
          <a:stretch/>
        </p:blipFill>
        <p:spPr>
          <a:xfrm>
            <a:off x="4689360" y="3816360"/>
            <a:ext cx="4410360" cy="30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esktop\На печать методичка\Моряки.jpg"/>
          <p:cNvPicPr/>
          <p:nvPr/>
        </p:nvPicPr>
        <p:blipFill>
          <a:blip r:embed="rId2"/>
          <a:stretch/>
        </p:blipFill>
        <p:spPr>
          <a:xfrm>
            <a:off x="165240" y="3914640"/>
            <a:ext cx="4503600" cy="291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На печать методичка\DMBs5nQWsAEA_V0.jpg"/>
          <p:cNvPicPr/>
          <p:nvPr/>
        </p:nvPicPr>
        <p:blipFill>
          <a:blip r:embed="rId3"/>
          <a:stretch/>
        </p:blipFill>
        <p:spPr>
          <a:xfrm>
            <a:off x="165240" y="719280"/>
            <a:ext cx="4503600" cy="31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Users\User\Desktop\На печать методичка\парад (1).jpg"/>
          <p:cNvPicPr/>
          <p:nvPr/>
        </p:nvPicPr>
        <p:blipFill>
          <a:blip r:embed="rId4"/>
          <a:stretch/>
        </p:blipFill>
        <p:spPr>
          <a:xfrm>
            <a:off x="4689360" y="836640"/>
            <a:ext cx="4427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честве кандидатов на поступление в военные образовательные организации для обучения курсантами рассматриваются граждане Российской Федерац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7640" y="1052640"/>
            <a:ext cx="895356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среднее общее, среднее профессиональное образование (начальное профессиональное образование, если в нем есть запись о получении средне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дные по состоянию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 подготовл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по профессиональной пригодности первую, вторую и третью категор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е соответствующие возраст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16 до 22 лет, не проходившие военную служб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шедшие военную службу, и военнослужащие, проходящие военную службу по призыву, - до достижения ими возраста 24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ослужащие, проходящие военную службу по контракту (кроме офицеров), поступающие в вузы для обучения по программам с полной военно-специальной подготовкой , - до достижения ими возраста 27 л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ступающие в вузы для обучения по программам со средней военно-специальной подготовкой  - до достижения ими возраста 30 лет 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необходимых документов для оформ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личного дела кандид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( подают в военный комиссариат по месту жительств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свидетельства о рожден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, удостоверяющего личность и граж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биограф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текущей успеваем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физ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истика с места учебы или работы (служб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б отсутствии судимости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 государственного образца о соответствующем уро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 заверенные фотографии размером 4,5х6 с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профессионального психологического отб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документов, подтверждающие достижения ( дипломы  и грамоты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книжки Юнармейца, удостоверения значка ГТО и спорт. дости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медицинского освидетельствования с результатами медицинских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й и с детской амбулаторной картой и сертификатом приви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907920"/>
            <a:ext cx="9061560" cy="5950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упления в подавляющее большинство военных образовательных организаций МО РФ требуются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физ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войсковые училища, Рязанское воздушно-десантное, экономический факультет Военного университета, институты МТО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обществозн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Военного университета «Перевод и переводоведение», специальность «Применение подразделений специальной разведки» Рязанского воздушно-десантного училища, специальность «перевод и переводоведение» Новосибирского военного института ФСВНГ РФ -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иностранному языку, истор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медицинская академия 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 химии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ому языку, би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институт физической культуры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 по русскому  языку и би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ндидат должен иметь спортивные звания или спортивные разряды не ниже первого по одному из видов 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-360" y="26640"/>
            <a:ext cx="9061560" cy="88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упление в военные образовательные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ется по результатам ЕГ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ПРИБЫТИЮ В ВОЕНН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УЮ ОРГАНИЗ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ете в приемную комиссию оригиналы докумен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военно-врачебную комисс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профессионально-психологический отб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 испытания по физической подготов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для юношей:                                Нормативы для девуше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565360"/>
          <a:ext cx="4032360" cy="3967200"/>
        </p:xfrm>
        <a:graphic>
          <a:graphicData uri="http://schemas.openxmlformats.org/drawingml/2006/table">
            <a:tbl>
              <a:tblPr/>
              <a:tblGrid>
                <a:gridCol w="1782720"/>
                <a:gridCol w="554040"/>
                <a:gridCol w="565200"/>
                <a:gridCol w="565200"/>
                <a:gridCol w="56520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 молоде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/сл, проходящие службу по призы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 на переклади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3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3280" y="2637000"/>
          <a:ext cx="4321440" cy="4014720"/>
        </p:xfrm>
        <a:graphic>
          <a:graphicData uri="http://schemas.openxmlformats.org/drawingml/2006/table">
            <a:tbl>
              <a:tblPr/>
              <a:tblGrid>
                <a:gridCol w="1892520"/>
                <a:gridCol w="608040"/>
                <a:gridCol w="606240"/>
                <a:gridCol w="608040"/>
                <a:gridCol w="6066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ы туловища впер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л. раз в мину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ача вступительных испытаний в связи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 сложной эпидемиологической обстановкой  в 2020-2022г.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-2022г.г. из-за пандемии приём абитуриентов в военные образовательные организации Министерства обороны Российской Федерации (далее РФ)  проходили  по месту их проживания без переезда к месту учё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75 субъектах РФ работали около 80 выездных приемных комиссий, куда вошли представители 35 вузов, специалисты профессионального психологического отбора и физической подгото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выездная группа отбирала кандидатов для поступления во все высшие военные учебные заведения Министерства обороны Р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енбургской области работала выездная группа филиала Военной академии войсковой противовоздушной обороны ВС РФ г. Смоленс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комиссия принимала экзамены по физической подготовке и проводила профессионально-психологической отбор в период с 1 по 15 июля 2022 г., таким образом у кандидатов оставалась возможность сдавать документы в другие гр. ву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060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ое образование и карьера – один из реально работающих и очень эффективных социальных лифтов в нашем обществ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2400" y="1125360"/>
          <a:ext cx="9003960" cy="2102040"/>
        </p:xfrm>
        <a:graphic>
          <a:graphicData uri="http://schemas.openxmlformats.org/drawingml/2006/table">
            <a:tbl>
              <a:tblPr/>
              <a:tblGrid>
                <a:gridCol w="4863960"/>
                <a:gridCol w="4140000"/>
              </a:tblGrid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ия военнослужа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мер денежного доволь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заключения контрак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000 до 206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3-5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0 до 2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2000 до 37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5000 до 7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лейтена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7000  до 75000 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0000  до 10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85000  до 12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90440" y="3429000"/>
          <a:ext cx="8785440" cy="3062160"/>
        </p:xfrm>
        <a:graphic>
          <a:graphicData uri="http://schemas.openxmlformats.org/drawingml/2006/table">
            <a:tbl>
              <a:tblPr/>
              <a:tblGrid>
                <a:gridCol w="2016360"/>
                <a:gridCol w="1081080"/>
                <a:gridCol w="1353960"/>
                <a:gridCol w="1085760"/>
                <a:gridCol w="1176480"/>
                <a:gridCol w="1177920"/>
                <a:gridCol w="893880"/>
              </a:tblGrid>
              <a:tr h="195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о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дбавки за квалификационный уровень физической подгот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7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рт. разряд 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после заключения контра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76" name="Прямоугольник 6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7:29:32Z</dcterms:created>
  <dc:creator>Пользователь</dc:creator>
  <dc:description/>
  <dc:language>en-US</dc:language>
  <cp:lastModifiedBy>Ферапонтова Л Е</cp:lastModifiedBy>
  <cp:lastPrinted>2018-10-26T09:55:59Z</cp:lastPrinted>
  <dcterms:modified xsi:type="dcterms:W3CDTF">2022-11-23T14:08:47Z</dcterms:modified>
  <cp:revision>332</cp:revision>
  <dc:subject/>
  <dc:title>Презентация PowerPoint</dc:title>
</cp:coreProperties>
</file>